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D9CA-68B9-4EEC-8438-11A097E8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86F-8EB2-44AE-BCEF-8FD96B64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ED2B-CA72-4B65-8CF9-1BC5DB6C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0351-317D-4A15-8C2E-5B1C45D5C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5800-274B-4338-BE54-28691EB1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BD533-EBE8-4F59-A317-FFE812B2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61BE-A7EC-490B-A63B-A9AF9422D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3B062-8AC6-4530-AFDF-ECFF3CF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2D44-AAEA-44F6-98CB-63E69D23B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048FF-A1A5-4FAE-950C-A489B83C7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062B-0266-4648-9EDB-CD613287A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0CAA-5DDA-4208-8D80-FFEB2166C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9FAC2-C08C-4C19-9400-EB36FBFE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7D0B-73FB-41FD-82E0-55856598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0FCE4-122D-4FAF-A2CF-A0F9706A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D7CC-EA02-4337-856E-853025A2F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A5735-C574-49EE-A277-A588E5AC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8F8C-F944-4111-9D43-7C1AEF6B9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C37D-0081-4E31-9C3D-F6D3C2B1F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3BB-4464-40B6-A38E-20308CD8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904C-12F6-4D4D-A6C2-2D05971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0999-962F-4498-BFA6-D0DD5C77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2165-0927-4C41-BCAB-E3553476E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1DA-DA2F-483C-A94E-6EF711FB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F572B-6C46-4275-A9FB-1A28958B67E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F8A9-C582-423E-B3CC-95A70D93E94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Роман Л.Н.Толстого «Война и мир» - роман-эпопея: проблематика, образы, жанр</a:t>
            </a:r>
            <a:br>
              <a:rPr sz="3800"/>
            </a:b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страсти, все моменты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ческой жизни, от крика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новорожденного ребёнка до последней 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	</a:t>
            </a: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пышки чувства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умирающего старика,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все горести и радости, доступные </a:t>
            </a: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человеку,- всё есть в этой картине!</a:t>
            </a: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006633"/>
                </a:solidFill>
                <a:latin typeface="Garamond"/>
              </a:rPr>
              <a:t>Критик Н. Страхов.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50920" y="333360"/>
          <a:ext cx="8640720" cy="619128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191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9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600"/>
            </a:br>
            <a:r>
              <a:rPr b="0" lang="ru-RU" sz="3600" spc="-1" strike="noStrike">
                <a:solidFill>
                  <a:srgbClr val="006633"/>
                </a:solidFill>
                <a:latin typeface="Garamond"/>
              </a:rPr>
              <a:t>            </a:t>
            </a:r>
            <a:r>
              <a:rPr b="1" i="1" lang="ru-RU" sz="3600" spc="-1" strike="noStrike" u="sng">
                <a:solidFill>
                  <a:srgbClr val="006633"/>
                </a:solidFill>
                <a:uFillTx/>
                <a:latin typeface="Garamond"/>
              </a:rPr>
              <a:t>КУТУЗОВ И НАПОЛЕОН</a:t>
            </a:r>
            <a:endParaRPr b="0" lang="en-US" sz="36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95280" y="1484280"/>
          <a:ext cx="8569440" cy="48744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утузов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олеон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979640" y="1989000"/>
          <a:ext cx="5640480" cy="304920"/>
        </p:xfrm>
        <a:graphic>
          <a:graphicData uri="http://schemas.openxmlformats.org/drawingml/2006/table">
            <a:tbl>
              <a:tblPr/>
              <a:tblGrid>
                <a:gridCol w="56404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нешность, детали портр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95280" y="2276640"/>
          <a:ext cx="8569440" cy="1554120"/>
        </p:xfrm>
        <a:graphic>
          <a:graphicData uri="http://schemas.openxmlformats.org/drawingml/2006/table">
            <a:tbl>
              <a:tblPr/>
              <a:tblGrid>
                <a:gridCol w="4105440"/>
                <a:gridCol w="4464000"/>
              </a:tblGrid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тяжело ступая», «по пухлому, изуродованному раной лицу», «лицо его становилось всё светлее и светлее от старческой кроткой улыбк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Franklin Gothic Demi"/>
                        </a:rPr>
                        <a:t>«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зучастный, ограниченный и счастливый от несчастия других взгляд», «круглый живот»,»жирные ляжки коротких ног», «жёлтый, пухлый, тяжёлый, с мутными глазами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908000" y="3429000"/>
          <a:ext cx="5688360" cy="304920"/>
        </p:xfrm>
        <a:graphic>
          <a:graphicData uri="http://schemas.openxmlformats.org/drawingml/2006/table">
            <a:tbl>
              <a:tblPr/>
              <a:tblGrid>
                <a:gridCol w="56883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сс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539640" y="3716280"/>
          <a:ext cx="8425080" cy="822240"/>
        </p:xfrm>
        <a:graphic>
          <a:graphicData uri="http://schemas.openxmlformats.org/drawingml/2006/table">
            <a:tbl>
              <a:tblPr/>
              <a:tblGrid>
                <a:gridCol w="4032360"/>
                <a:gridCol w="439272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Он был убеждён, что ему предназначено спасение России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3-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Париж был столицей мира, и французы предметом зависти всех наций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8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2050920" y="4292640"/>
          <a:ext cx="5569200" cy="304920"/>
        </p:xfrm>
        <a:graphic>
          <a:graphicData uri="http://schemas.openxmlformats.org/drawingml/2006/table">
            <a:tbl>
              <a:tblPr/>
              <a:tblGrid>
                <a:gridCol w="556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ль в истор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68360" y="4581360"/>
          <a:ext cx="8424720" cy="1603440"/>
        </p:xfrm>
        <a:graphic>
          <a:graphicData uri="http://schemas.openxmlformats.org/drawingml/2006/table">
            <a:tbl>
              <a:tblPr/>
              <a:tblGrid>
                <a:gridCol w="4032360"/>
                <a:gridCol w="4392360"/>
              </a:tblGrid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играл никакой роли»;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е делал никаких распоряжений, а только соглашался или не соглашался на то, что предлагали ему «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Роль «благодетеля мира»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«Наполеон делал свои распоряжения, которые или уже были исполнены прежде, чем он делал их, или же не могли быть и не были исполнены» (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-2-3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523880" y="333360"/>
          <a:ext cx="6096240" cy="4316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нтральные сцены с участием этих герое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395280" y="765000"/>
          <a:ext cx="8424720" cy="608976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68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мотр войск в Брауна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оенный совет перед Аустерлицем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- 16,25,3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Совет в Филях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3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Главы о Кутузов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4 -4,5,6,1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Аустерлицкое сражени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Тильзитский ми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 - 2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Переправа через Неман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 - 1  -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ородинское сражени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2  - 26,29,33,38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На Поклонной горе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II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- 19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В захваченной Москве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2 – 8,9,10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Бегство Наполеона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IV</a:t>
                      </a:r>
                      <a:r>
                        <a:rPr b="0" i="1" lang="ru-RU" sz="2400" spc="-1" strike="noStrike">
                          <a:solidFill>
                            <a:srgbClr val="000000"/>
                          </a:solidFill>
                          <a:latin typeface="Elephant"/>
                        </a:rPr>
                        <a:t> – 3 – 16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69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0"/>
          <p:cNvSpPr/>
          <p:nvPr/>
        </p:nvSpPr>
        <p:spPr>
          <a:xfrm>
            <a:off x="395280" y="189000"/>
            <a:ext cx="8497800" cy="59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</a:t>
            </a:r>
            <a:r>
              <a:rPr b="1" i="1" lang="ru-RU" sz="2400" spc="-1" strike="noStrike" u="sng">
                <a:solidFill>
                  <a:srgbClr val="006633"/>
                </a:solidFill>
                <a:uFillTx/>
                <a:latin typeface="Arial"/>
              </a:rPr>
              <a:t>ИСТОРИЯ СОЗДАНИЯ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63-18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стреча с Пущиным и  Волконск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Роман «Война и мир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                          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Восстание на Сенатской площ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Повесть «Декабристы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12                         Отечественная вой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                                                        </a:t>
            </a:r>
            <a:r>
              <a:rPr b="0" lang="ru-RU" sz="1600" spc="-1" strike="noStrike">
                <a:solidFill>
                  <a:srgbClr val="006633"/>
                </a:solidFill>
                <a:latin typeface="Arial"/>
              </a:rPr>
              <a:t>1805                                Война с Наполеоном в союзе с Австри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1"/>
          <p:cNvSpPr/>
          <p:nvPr/>
        </p:nvSpPr>
        <p:spPr>
          <a:xfrm flipV="1">
            <a:off x="3995640" y="155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82"/>
          <p:cNvSpPr/>
          <p:nvPr/>
        </p:nvSpPr>
        <p:spPr>
          <a:xfrm>
            <a:off x="4211640" y="2276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83"/>
          <p:cNvSpPr/>
          <p:nvPr/>
        </p:nvSpPr>
        <p:spPr>
          <a:xfrm>
            <a:off x="3995640" y="2421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84"/>
          <p:cNvSpPr/>
          <p:nvPr/>
        </p:nvSpPr>
        <p:spPr>
          <a:xfrm>
            <a:off x="4356000" y="3573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85"/>
          <p:cNvSpPr/>
          <p:nvPr/>
        </p:nvSpPr>
        <p:spPr>
          <a:xfrm>
            <a:off x="4067280" y="37162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87"/>
          <p:cNvSpPr/>
          <p:nvPr/>
        </p:nvSpPr>
        <p:spPr>
          <a:xfrm>
            <a:off x="4427640" y="4581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88"/>
          <p:cNvSpPr/>
          <p:nvPr/>
        </p:nvSpPr>
        <p:spPr>
          <a:xfrm>
            <a:off x="4067280" y="479736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89"/>
          <p:cNvSpPr/>
          <p:nvPr/>
        </p:nvSpPr>
        <p:spPr>
          <a:xfrm>
            <a:off x="4427640" y="5516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9280" y="189000"/>
          <a:ext cx="8785440" cy="626436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26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250920" y="404640"/>
            <a:ext cx="8569080" cy="61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                         </a:t>
            </a:r>
            <a:r>
              <a:rPr b="1" i="1" lang="ru-RU" sz="2000" spc="-1" strike="noStrike">
                <a:solidFill>
                  <a:srgbClr val="006633"/>
                </a:solidFill>
                <a:latin typeface="Arial"/>
              </a:rPr>
              <a:t>«Я старался писать историю народ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57 г. – после встречи с декабристами Л.Н.Толстой задумал роман об одном из ни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25 г. – «Невольно от настоящего я перешёл к 1825 году, эпохе заблуждений и несчастий моего героя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12 г. – «Чтобы понять моего героя, мне нужно перенестись к его молодости, которая совпала со славной для России эпохой 1812 г.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1805 г. – «Мне совестно было писать о нашем торжестве, не описав неудач и нашего срам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6633"/>
                </a:solidFill>
                <a:uFillTx/>
                <a:latin typeface="Arial"/>
              </a:rPr>
              <a:t>Вывод</a:t>
            </a:r>
            <a:r>
              <a:rPr b="0" lang="ru-RU" sz="1800" spc="-1" strike="noStrike">
                <a:solidFill>
                  <a:srgbClr val="006633"/>
                </a:solidFill>
                <a:latin typeface="Arial"/>
              </a:rPr>
              <a:t>: накопился огромный материал об исторических событиях 1805 – 1856 г.г. и замысел романа изменился. В центре оказались события 1812г., и героем романа стал русский нар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79280" y="189000"/>
          <a:ext cx="8856720" cy="6335640"/>
        </p:xfrm>
        <a:graphic>
          <a:graphicData uri="http://schemas.openxmlformats.org/drawingml/2006/table">
            <a:tbl>
              <a:tblPr/>
              <a:tblGrid>
                <a:gridCol w="8856720"/>
              </a:tblGrid>
              <a:tr h="633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«Война и мир» (1805 – 1820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06 – 18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II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м   18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V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м   1812 – 18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138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пилог   18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24000" y="260280"/>
          <a:ext cx="8640720" cy="6337440"/>
        </p:xfrm>
        <a:graphic>
          <a:graphicData uri="http://schemas.openxmlformats.org/drawingml/2006/table">
            <a:tbl>
              <a:tblPr/>
              <a:tblGrid>
                <a:gridCol w="8640720"/>
              </a:tblGrid>
              <a:tr h="633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                                                                                                        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40384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500" spc="-1" strike="noStrike" u="sng">
                <a:solidFill>
                  <a:srgbClr val="000000"/>
                </a:solidFill>
                <a:uFillTx/>
                <a:latin typeface="Times New Roman"/>
              </a:rPr>
              <a:t>Первый – второй т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Русско-австро-французск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ойна 1805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йна между коалицией  европейских держав (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еликобритания, Россия, Австрия, Швец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) и наполеоновской Францией. Союзники ставили своей целью изгнать французские войска с захваченных ими территорий и восстановить дореволюционные порядки во Франции. Главная роль в войне возлагалась на Австрию и Россию. Наполеон, получив известие о том, что австрийские войска 27 августа вступили в Баварию, искусным маневром своих главных сил окружил армию Макка и принудил её к капитуляции. Русские войска, прибывшие 29 сент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Браунау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оказались в тяжёлом положении и были вынуждены начать отход вдоль правого берега Дуная. Наполеон попытался окружить русские войска в районе Санкт-Пельтена. Но Кутузов, разгадав замысел противника, переправился через Дунай раньше подхода французов и нанёс сокрушительный удар. 4 ноября отряд Багратиона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Шенграбенском бою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отразил атаки 30-тысячного авангарда французских войск и обеспечил соединение главных сил с австрийскими войсками. 20 ноября в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Аустерлицком сражени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союзные войска были разбиты. Австрия вышла из войны и подписала с Францией сепаратный мир. Русские войска были отведены в Росси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43280" y="620640"/>
            <a:ext cx="40435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Третий – четвёртый то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свободительная война России против наполеоновской агрессии. Вторжение войск наполеона было вызвано обострением русско-французских экономических и политических противоречий, фактическим отказом России от Континентальной блокады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Основные события 1812 г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2 июн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ереход французской армии через Неман (силы сторон к началу Отечественной войны: французы - около 610 тыс. человек; русские - около 240 тыс. человек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4-6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моленское сражение, неудачная попытка наполеона разгромить основные силы русских войс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назначение главнокомандующим М.И.Кутузо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8 август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Бородинское сражени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военный совет в Филях, решение Кутузова оставить Москву; вступление французских войск в Москв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2-6 сент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пожар Москв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ентябрь-октя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Кутузов проводит Тарутинский марш-маневр, вынуждает французов уйти из Москвы и отступать по Старой Смоленской дороге; развёртывается партизанская вой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-16 ноя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сражение при Березине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Ноябрь-декабрь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гибель французской арми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4 декабр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– изгнание остатков «великой армии» из Росси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1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6633"/>
                </a:solidFill>
                <a:latin typeface="Garamond"/>
              </a:rPr>
              <a:t>                      </a:t>
            </a: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Л. Н. ТОЛСТОЙ «Война и мир»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1" i="1" lang="ru-RU" sz="2100" spc="-1" strike="noStrike">
                <a:solidFill>
                  <a:srgbClr val="000000"/>
                </a:solidFill>
                <a:latin typeface="Garamond"/>
              </a:rPr>
              <a:t>Историческая основа романа</a:t>
            </a:r>
            <a:endParaRPr b="0" lang="en-US" sz="2100" spc="-1" strike="noStrike">
              <a:solidFill>
                <a:srgbClr val="006633"/>
              </a:solidFill>
              <a:latin typeface="Garamond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72000" y="1484280"/>
          <a:ext cx="4392720" cy="374508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374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324000" y="1628640"/>
          <a:ext cx="4105080" cy="4248360"/>
        </p:xfrm>
        <a:graphic>
          <a:graphicData uri="http://schemas.openxmlformats.org/drawingml/2006/table">
            <a:tbl>
              <a:tblPr/>
              <a:tblGrid>
                <a:gridCol w="4105080"/>
              </a:tblGrid>
              <a:tr h="424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Жанр рома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Что такое «Война и мир»? Это не роман, ещё менее поэма, ещё менее историческая  хроника. «Война и мир» есть то, что хотел и мог выразить автор в той форме, в которой оно выразилось». (Л.Н.Толстой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..Это не роман вообще, не исторический роман, даже не историческая хроника, это хроника семейная…это быль, и быль семейная» (Н.Страхо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«Оригинальное и многостороннее произведение, соединяющее в себе эпопею, исторический роман и очерк нравов» (И.С.Тургенев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50920" y="260280"/>
          <a:ext cx="8713800" cy="6408720"/>
        </p:xfrm>
        <a:graphic>
          <a:graphicData uri="http://schemas.openxmlformats.org/drawingml/2006/table">
            <a:tbl>
              <a:tblPr/>
              <a:tblGrid>
                <a:gridCol w="8713800"/>
              </a:tblGrid>
              <a:tr h="64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5"/>
          <p:cNvSpPr/>
          <p:nvPr/>
        </p:nvSpPr>
        <p:spPr>
          <a:xfrm>
            <a:off x="755640" y="404640"/>
            <a:ext cx="77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250920" y="307440"/>
            <a:ext cx="864216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Роман-эпопе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«Романные» признаки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звитие сюжета, в котором есть завязка, развитие действия, кульминация, развязка – для всего повествования и для каждой сюжетной линии в отдельности; взаимодействие среды с характером героя, развитие эт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ризнаки эпопе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тема(эпоха больших исторических событий); идейное содержание – «моральное единение повествователя с народом в его героической деятельности, патриотизм… прославление жизни, оптимизм; сложность композиции; стремление автора к национально-историческому обобщению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торые литературоведы определяют «Войну и мир» как философско-исторический роман. Но надо помнить, что история и философия в романе – только составные части. Роман создавался не для воссоздания истории, а как книга о жизни всего народа, нации, создавалась художественная правда. Следовательно, это роман-эпоп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79280" y="260280"/>
          <a:ext cx="8785440" cy="6121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612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 u="sng">
                <a:solidFill>
                  <a:srgbClr val="000000"/>
                </a:solidFill>
                <a:uFillTx/>
                <a:latin typeface="Arial"/>
              </a:rPr>
              <a:t>«Любимые» геро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динам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уховно бога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овершают ошибки (духовные поиск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Отечеству, общему дел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детство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не в Петербурге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Есть семь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частливы в финале повествова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Ростовых, Болконских, Безуховых;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Кутузов, Тимохин, Тушин, Давыдов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Arial"/>
              </a:rPr>
              <a:t>«Нелюбимые» геро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Даны в статистик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Красивы внеш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ие духовност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Уверены в себе (не совершают ошибок) – нет духовной работы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лужба себ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аходятся в периоде «отрочества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 любят детей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Живут в Петербур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Нет семь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Отсутствуют в эпилог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Семьи Курагиных, Карагиных, Друбецких,Бергеров; Шерер,Наполеон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250920" y="981000"/>
          <a:ext cx="4249800" cy="5327640"/>
        </p:xfrm>
        <a:graphic>
          <a:graphicData uri="http://schemas.openxmlformats.org/drawingml/2006/table">
            <a:tbl>
              <a:tblPr/>
              <a:tblGrid>
                <a:gridCol w="4249800"/>
              </a:tblGrid>
              <a:tr h="532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4572000" y="981000"/>
          <a:ext cx="4392720" cy="5327640"/>
        </p:xfrm>
        <a:graphic>
          <a:graphicData uri="http://schemas.openxmlformats.org/drawingml/2006/table">
            <a:tbl>
              <a:tblPr/>
              <a:tblGrid>
                <a:gridCol w="4392720"/>
              </a:tblGrid>
              <a:tr h="5327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1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56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Л.Н.ТОЛСТОЙ «ВОЙНА И МИР»</a:t>
            </a:r>
            <a:br>
              <a:rPr sz="3800"/>
            </a:br>
            <a:r>
              <a:rPr b="0" lang="ru-RU" sz="2400" spc="-1" strike="noStrike">
                <a:solidFill>
                  <a:srgbClr val="006633"/>
                </a:solidFill>
                <a:latin typeface="Franklin Gothic Demi"/>
              </a:rPr>
              <a:t>Пути исканий смысла жизни Пьером и князем Андреем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ля того, чтобы постичь смысл жизни, необходимо пройти через множество разочарований, кризисов, потерь и обретений</a:t>
            </a:r>
            <a:r>
              <a:rPr b="0" lang="ru-RU" sz="2000" spc="-1" strike="noStrike">
                <a:solidFill>
                  <a:srgbClr val="0066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ЬЕР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79280" y="1916280"/>
          <a:ext cx="42800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64040"/>
              </a:tblGrid>
              <a:tr h="5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ЬЕР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12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 отца, женитьба на Элен и дуэль с Долохо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лечение масонств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Андрее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судьбе Наташи и встреча с комет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езд на Бородинское поле и жизнь на батарее Раев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Андрее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бывание в захваченной французами Москве, плен, знакомство с Платоном Каратаевы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Женитьба на Наташ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частие в деятельности тайных обществ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4643280" y="1916280"/>
          <a:ext cx="4265640" cy="4681440"/>
        </p:xfrm>
        <a:graphic>
          <a:graphicData uri="http://schemas.openxmlformats.org/drawingml/2006/table">
            <a:tbl>
              <a:tblPr/>
              <a:tblGrid>
                <a:gridCol w="216000"/>
                <a:gridCol w="4049640"/>
              </a:tblGrid>
              <a:tr h="61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нязь АНДРЕЙ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мейная жизнь с Лизо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ход на войну, мечта о славе Наполеон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 под Аустерлицем и встреча с Наполеоно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ождение сына и смерть же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единённая жизнь в деревне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пор с Пьером на пароме в Богучаров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лужба у Сперанского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юбовь к Наташе и разочарование в н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родино и встреча с Пьером в ночь перед сражени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нение, встреча с Анатолем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стреча с Наташей и княжной Марьей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мерть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cc9900"/>
                        </a:buClr>
                        <a:buSzPct val="65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755640" y="1268280"/>
          <a:ext cx="7561440" cy="648000"/>
        </p:xfrm>
        <a:graphic>
          <a:graphicData uri="http://schemas.openxmlformats.org/drawingml/2006/table">
            <a:tbl>
              <a:tblPr/>
              <a:tblGrid>
                <a:gridCol w="7561440"/>
              </a:tblGrid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ля того, чтобы постичь смысл жизни, необходимо пройти через множество разочарований, кризисов, потерь и обрет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5T16:40:40Z</dcterms:created>
  <dc:creator>ТАНЯ</dc:creator>
  <dc:description/>
  <dc:language>en-US</dc:language>
  <cp:lastModifiedBy>Сухарь</cp:lastModifiedBy>
  <dcterms:modified xsi:type="dcterms:W3CDTF">2013-01-03T02:16:41Z</dcterms:modified>
  <cp:revision>7</cp:revision>
  <dc:subject/>
  <dc:title>                      Л. Н. ТОЛСТОЙ «Война и мир»                    Историческая основа романа</dc:title>
</cp:coreProperties>
</file>